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8AC2B-E426-4104-B32F-FB407DCDC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4C2A9A-4B10-447F-AD55-41D493AA5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3931D-B887-4198-A855-AD1648253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DAB31-377B-40EE-992E-9AE7CBE97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503A31-CE0A-404C-86EA-F01709F270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9F84DE-F57A-41F7-B55D-00356F257C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CA9373-1675-4DC4-87EF-26A1C3F1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8CC9E-FE64-4F3F-877D-C6B04924A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3F2124-5A98-4498-821F-D08FF69DA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783118-8F82-4D50-989F-104DA7126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94D88D-8A6A-4F73-BA34-F11B3407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7C77A-2CC7-4F4A-B741-1CD96F18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12C7C-DB03-403E-AC52-F4A0663E1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6569D0-E86F-4FE4-A889-5AB93D17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5B510-71E9-4A71-8201-9F49ABA3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>
            <a:hlinkClick r:id="" action="ppaction://hlinkshowjump?jump=previousslide"/>
          </p:cNvPr>
          <p:cNvSpPr/>
          <p:nvPr/>
        </p:nvSpPr>
        <p:spPr>
          <a:xfrm>
            <a:off x="57150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>
            <a:hlinkClick r:id="" action="ppaction://hlinkshowjump?jump=nextslide"/>
          </p:cNvPr>
          <p:cNvSpPr/>
          <p:nvPr/>
        </p:nvSpPr>
        <p:spPr>
          <a:xfrm>
            <a:off x="6553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>
            <a:hlinkClick r:id="" action="ppaction://hlinkshowjump?jump=firstslide"/>
          </p:cNvPr>
          <p:cNvSpPr/>
          <p:nvPr/>
        </p:nvSpPr>
        <p:spPr>
          <a:xfrm>
            <a:off x="7391520" y="662940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9">
            <a:hlinkClick r:id="" action="ppaction://hlinkshowjump?jump=endshow"/>
          </p:cNvPr>
          <p:cNvSpPr/>
          <p:nvPr/>
        </p:nvSpPr>
        <p:spPr>
          <a:xfrm>
            <a:off x="82296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192600" y="817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9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1066680" y="968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Converting Metric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66680" y="1447920"/>
          <a:ext cx="7772400" cy="4081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ary Conver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n = 1 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ft = 1 y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oz = 1 l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lb = 1 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fl oz = 1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 = 1 p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pt = 1 q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qt = 1 g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4419720" y="1676520"/>
            <a:ext cx="4419360" cy="487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heavy is a kil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20574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kit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igh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bout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kilogra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ANMPT092"/>
          <p:cNvPicPr/>
          <p:nvPr/>
        </p:nvPicPr>
        <p:blipFill>
          <a:blip r:embed="rId1"/>
          <a:stretch/>
        </p:blipFill>
        <p:spPr>
          <a:xfrm>
            <a:off x="5181480" y="2286000"/>
            <a:ext cx="2984760" cy="3697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152280" y="2133720"/>
            <a:ext cx="8839080" cy="2969640"/>
            <a:chOff x="152280" y="2133720"/>
            <a:chExt cx="8839080" cy="2969640"/>
          </a:xfrm>
        </p:grpSpPr>
        <p:sp>
          <p:nvSpPr>
            <p:cNvPr id="130" name="Rectangle 2"/>
            <p:cNvSpPr/>
            <p:nvPr/>
          </p:nvSpPr>
          <p:spPr>
            <a:xfrm>
              <a:off x="4491720" y="2750400"/>
              <a:ext cx="4497480" cy="23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day = 24 hours (hr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hour = 60 minutes (min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minute = 60 seconds (s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3"/>
            <p:cNvSpPr/>
            <p:nvPr/>
          </p:nvSpPr>
          <p:spPr>
            <a:xfrm>
              <a:off x="152280" y="2750400"/>
              <a:ext cx="4339440" cy="23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year (yr) = 365 day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year = 12 months (mo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year = 52 week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1 week = 7 day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152280" y="2133720"/>
              <a:ext cx="8837280" cy="616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Time Convers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152280" y="2133720"/>
              <a:ext cx="8837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152280" y="2750400"/>
              <a:ext cx="8837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152280" y="5102280"/>
              <a:ext cx="8837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152280" y="2133720"/>
              <a:ext cx="1440" cy="29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8989560" y="2133720"/>
              <a:ext cx="1800" cy="29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4491720" y="2750400"/>
              <a:ext cx="1800" cy="235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"/>
          <p:cNvGrpSpPr/>
          <p:nvPr/>
        </p:nvGrpSpPr>
        <p:grpSpPr>
          <a:xfrm>
            <a:off x="468360" y="2074320"/>
            <a:ext cx="8124840" cy="1740960"/>
            <a:chOff x="468360" y="2074320"/>
            <a:chExt cx="8124840" cy="1740960"/>
          </a:xfrm>
        </p:grpSpPr>
        <p:sp>
          <p:nvSpPr>
            <p:cNvPr id="140" name="Text Box 2"/>
            <p:cNvSpPr/>
            <p:nvPr/>
          </p:nvSpPr>
          <p:spPr>
            <a:xfrm>
              <a:off x="468360" y="2624040"/>
              <a:ext cx="812484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o multiply by a power of 10, move the decimal to the right; to divide by a power of 10, move the decimal to the lef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3"/>
            <p:cNvSpPr/>
            <p:nvPr/>
          </p:nvSpPr>
          <p:spPr>
            <a:xfrm>
              <a:off x="621360" y="2074320"/>
              <a:ext cx="2186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Verdana"/>
                </a:rPr>
                <a:t>Helpful Hint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316080" y="961920"/>
            <a:ext cx="852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 Black"/>
              </a:rPr>
              <a:t>E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vert 450 g to _____ k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495680" y="3638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Verdana"/>
              </a:rPr>
              <a:t>Write a propor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28760" y="3666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19320" y="3514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450 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k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5909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1,000 g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057320" y="4495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450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943280" y="5943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0.45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495680" y="44956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Verdana"/>
              </a:rPr>
              <a:t>The cross products are equal. Divide both sides by 1,000 to undo the multipli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316080" y="961920"/>
            <a:ext cx="852300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rial Black"/>
              </a:rPr>
              <a:t>Ex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v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495680" y="3638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Verdana"/>
              </a:rPr>
              <a:t>Write a propor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28760" y="3666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14400" y="3514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8,500 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k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590920" y="3521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1,000 g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295280" y="2209680"/>
            <a:ext cx="53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,500 g = _____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057320" y="449568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,000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8,500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905120" y="5943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8.5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4495680" y="42670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3366ff"/>
                </a:solidFill>
                <a:latin typeface="Verdana"/>
              </a:rPr>
              <a:t>The cross products are equal. Divide both sides by 1,000 to undo the multipli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Conversions (Metric and Customary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12m = _________k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2m = _________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12m = _________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48 in. = _________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48 in. = _________ y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48 in. = _________ 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380880" y="1676520"/>
            <a:ext cx="8457840" cy="2883960"/>
            <a:chOff x="380880" y="1676520"/>
            <a:chExt cx="8457840" cy="2883960"/>
          </a:xfrm>
        </p:grpSpPr>
        <p:sp>
          <p:nvSpPr>
            <p:cNvPr id="54" name="Rectangle 8"/>
            <p:cNvSpPr/>
            <p:nvPr/>
          </p:nvSpPr>
          <p:spPr>
            <a:xfrm>
              <a:off x="380880" y="4062600"/>
              <a:ext cx="28944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cm = 10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380880" y="3542760"/>
              <a:ext cx="28944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m = 100 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380880" y="3046320"/>
              <a:ext cx="2894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km = 1,000 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380880" y="2172600"/>
              <a:ext cx="289440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Dist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3275280" y="4062600"/>
              <a:ext cx="30463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3275280" y="3542760"/>
              <a:ext cx="30463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g = 1,000 m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4"/>
            <p:cNvSpPr/>
            <p:nvPr/>
          </p:nvSpPr>
          <p:spPr>
            <a:xfrm>
              <a:off x="6321960" y="3046320"/>
              <a:ext cx="251532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L = 1,000 m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3275280" y="3046320"/>
              <a:ext cx="3046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</a:rPr>
                <a:t>1 kg = 1,000 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6321960" y="2172600"/>
              <a:ext cx="251532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3275280" y="2172600"/>
              <a:ext cx="304632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Ma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380880" y="1676520"/>
              <a:ext cx="8456760" cy="49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Verdana"/>
                </a:rPr>
                <a:t>Metric Measurem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380880" y="1676520"/>
              <a:ext cx="8456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80880" y="2172600"/>
              <a:ext cx="8456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380880" y="3046320"/>
              <a:ext cx="8456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>
              <a:off x="380880" y="3542760"/>
              <a:ext cx="594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380880" y="4062600"/>
              <a:ext cx="594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>
              <a:off x="380880" y="4559400"/>
              <a:ext cx="84567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380880" y="1676520"/>
              <a:ext cx="1440" cy="28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8837640" y="1676520"/>
              <a:ext cx="1080" cy="288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>
              <a:off x="6321960" y="2172600"/>
              <a:ext cx="1440" cy="23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>
              <a:off x="3275280" y="2172600"/>
              <a:ext cx="1080" cy="23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Text Box 29"/>
          <p:cNvSpPr/>
          <p:nvPr/>
        </p:nvSpPr>
        <p:spPr>
          <a:xfrm>
            <a:off x="8380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vert metric measures by using a conversion factor or using propor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6248520" y="3048120"/>
            <a:ext cx="213336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millim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TOLHN087"/>
          <p:cNvPicPr/>
          <p:nvPr/>
        </p:nvPicPr>
        <p:blipFill>
          <a:blip r:embed="rId1"/>
          <a:stretch/>
        </p:blipFill>
        <p:spPr>
          <a:xfrm>
            <a:off x="6858000" y="3276720"/>
            <a:ext cx="938160" cy="1676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14400" y="320040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wid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a p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2"/>
          <p:cNvSpPr/>
          <p:nvPr/>
        </p:nvSpPr>
        <p:spPr>
          <a:xfrm>
            <a:off x="5791320" y="1752480"/>
            <a:ext cx="2971800" cy="4496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centim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400" y="25146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wid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the t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your fing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PPLPR003"/>
          <p:cNvPicPr/>
          <p:nvPr/>
        </p:nvPicPr>
        <p:blipFill>
          <a:blip r:embed="rId1"/>
          <a:stretch/>
        </p:blipFill>
        <p:spPr>
          <a:xfrm>
            <a:off x="6556320" y="2286000"/>
            <a:ext cx="1590840" cy="335268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6477120" y="2209680"/>
            <a:ext cx="4572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2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m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" y="22860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bout the widt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f one &amp; 1/2 doo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H_HIN017"/>
          <p:cNvPicPr/>
          <p:nvPr/>
        </p:nvPicPr>
        <p:blipFill>
          <a:blip r:embed="rId1"/>
          <a:stretch/>
        </p:blipFill>
        <p:spPr>
          <a:xfrm>
            <a:off x="5334120" y="2057400"/>
            <a:ext cx="167616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_HIN017"/>
          <p:cNvPicPr/>
          <p:nvPr/>
        </p:nvPicPr>
        <p:blipFill>
          <a:blip r:embed="rId2"/>
          <a:stretch/>
        </p:blipFill>
        <p:spPr>
          <a:xfrm>
            <a:off x="6858000" y="2057400"/>
            <a:ext cx="1676520" cy="3581280"/>
          </a:xfrm>
          <a:prstGeom prst="rect">
            <a:avLst/>
          </a:prstGeom>
          <a:ln w="0">
            <a:noFill/>
          </a:ln>
        </p:spPr>
      </p:pic>
      <p:sp>
        <p:nvSpPr>
          <p:cNvPr id="92" name="Line 7"/>
          <p:cNvSpPr/>
          <p:nvPr/>
        </p:nvSpPr>
        <p:spPr>
          <a:xfrm>
            <a:off x="5410080" y="38862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717160" y="3124080"/>
            <a:ext cx="17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me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4648320" y="1371600"/>
            <a:ext cx="4495680" cy="487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28600" y="990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kilome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littl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/2 of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i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6960" y="297180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 kilome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095880" y="4419720"/>
            <a:ext cx="83844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105520" y="236232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5943600" y="2362320"/>
            <a:ext cx="0" cy="3429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869080" y="1752480"/>
            <a:ext cx="22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m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012080" y="4191120"/>
            <a:ext cx="15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l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6019920" y="2362320"/>
            <a:ext cx="0" cy="2438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5029200" y="1371600"/>
            <a:ext cx="3733920" cy="487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millili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bout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rop o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_HKT188"/>
          <p:cNvPicPr/>
          <p:nvPr/>
        </p:nvPicPr>
        <p:blipFill>
          <a:blip r:embed="rId1"/>
          <a:stretch/>
        </p:blipFill>
        <p:spPr>
          <a:xfrm>
            <a:off x="6705720" y="2209680"/>
            <a:ext cx="387360" cy="2590920"/>
          </a:xfrm>
          <a:prstGeom prst="rect">
            <a:avLst/>
          </a:prstGeom>
          <a:ln w="0">
            <a:noFill/>
          </a:ln>
        </p:spPr>
      </p:pic>
      <p:sp>
        <p:nvSpPr>
          <p:cNvPr id="110" name="Oval 6"/>
          <p:cNvSpPr/>
          <p:nvPr/>
        </p:nvSpPr>
        <p:spPr>
          <a:xfrm flipH="1">
            <a:off x="6857280" y="4724280"/>
            <a:ext cx="152280" cy="3049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5029200" y="1219320"/>
            <a:ext cx="3733920" cy="487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5228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a li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236232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alf of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arge p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bott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FODBV108"/>
          <p:cNvPicPr/>
          <p:nvPr/>
        </p:nvPicPr>
        <p:blipFill>
          <a:blip r:embed="rId1"/>
          <a:stretch/>
        </p:blipFill>
        <p:spPr>
          <a:xfrm>
            <a:off x="6172200" y="1295280"/>
            <a:ext cx="1481040" cy="448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6172200" y="380988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400800" y="40384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2"/>
          <p:cNvSpPr/>
          <p:nvPr/>
        </p:nvSpPr>
        <p:spPr>
          <a:xfrm>
            <a:off x="5029200" y="1600200"/>
            <a:ext cx="3733920" cy="487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heavy is a 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04920" y="236232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 paper cli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igh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bout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gra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B_OEQ236"/>
          <p:cNvPicPr/>
          <p:nvPr/>
        </p:nvPicPr>
        <p:blipFill>
          <a:blip r:embed="rId1"/>
          <a:stretch/>
        </p:blipFill>
        <p:spPr>
          <a:xfrm>
            <a:off x="5562720" y="2590920"/>
            <a:ext cx="2489040" cy="2590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247200" y="6491160"/>
            <a:ext cx="58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“Math Flash Measurement I” by M. and B. Yuska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18:16Z</dcterms:created>
  <dc:creator/>
  <dc:description/>
  <dc:language>en-US</dc:language>
  <cp:lastModifiedBy>Durham Public Schools</cp:lastModifiedBy>
  <dcterms:modified xsi:type="dcterms:W3CDTF">2012-11-28T12:18:10Z</dcterms:modified>
  <cp:revision>9</cp:revision>
  <dc:subject/>
  <dc:title>Slide 1</dc:title>
</cp:coreProperties>
</file>